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83D4-365B-4720-9B76-21CE393D1D23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FCE-4257-4DDA-9A7E-82DF6FDE1AB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F272-5BCC-41A4-B5D6-F0651BB00AD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ith anything, the key to being able to find and use even your own data is good organiz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ime, space, or type of measurement fundamental to your project?  Some of all of the ab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514-EB5B-466E-873C-24A58F0ED39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data gathering and quality control procedures needed to be developed and lots of people trained in them prior to each measurement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ory structures for organizing the thousands of files by instrument and measurement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e naming conventions and identifiers for sit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BEE-D900-45BE-A269-85F33F03474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e naming conventions and identifiers for sit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F61-8473-4FEF-B7C1-4C458553F20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B05-02BF-494F-B6F0-5CD6A1BACBE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3400" y="299880"/>
            <a:ext cx="73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Elements of a Data Management Plan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Organization and Standards; Version 0.1.0, Reviewed ?/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taconservancy.org/sites/default/files/Questionnaire_V.1.pdf" TargetMode="External"/><Relationship Id="rId2" Type="http://schemas.openxmlformats.org/officeDocument/2006/relationships/hyperlink" Target="https://dmp.cdlib.org/" TargetMode="External"/><Relationship Id="rId3" Type="http://schemas.openxmlformats.org/officeDocument/2006/relationships/hyperlink" Target="http://www.nsf.gov/bfa/dias/policy/dmp.jsp" TargetMode="External"/><Relationship Id="rId4" Type="http://schemas.openxmlformats.org/officeDocument/2006/relationships/hyperlink" Target="http://science1.nasa.gov/earth-science/earth-science-data/data-information-policy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Elements of a Data Management Pla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Organization and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0.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or a high level overview of the content of a Data Management Plan see Data Management: Elements of a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or details of other sections of a Data Management Plan se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Identify materials to be crea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oles and responsibil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scribing and document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ata access, sharing and re-us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ackups, archives, and preservation strate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ings to think abou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are the natural ways the material you will be creating could be organized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es your community have standards that you should be following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otential O&amp;S topics to cover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s with everything in data management, scale matters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 1 – A large-scale project: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Cold Lands Processes Experiment (CLPX)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680" y="2324160"/>
            <a:ext cx="37972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80+ investigato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ide variety of earth bound, airborne and satellite senso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anual snow pit measure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veral model data sets too!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acquired at several different scales (MSA, ISA, LSOS, LRSA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rcRect l="0" t="0" r="4549" b="2537"/>
          <a:stretch/>
        </p:blipFill>
        <p:spPr>
          <a:xfrm>
            <a:off x="4749840" y="2209680"/>
            <a:ext cx="7643880" cy="689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st critical CLPX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 2 – Small scale science: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veterinarian studying effects of oil on bird mortality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3047760"/>
            <a:ext cx="524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ngle investigat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ult is a spreadsheet of subjects, blood sample analyses and mortality outco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1" descr=""/>
          <p:cNvPicPr/>
          <p:nvPr/>
        </p:nvPicPr>
        <p:blipFill>
          <a:blip r:embed="rId1"/>
          <a:stretch/>
        </p:blipFill>
        <p:spPr>
          <a:xfrm>
            <a:off x="5969160" y="3048120"/>
            <a:ext cx="63417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st critical bird health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re potential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community standards aren’t you going to use and why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tandards gaps are there and how are you going to help fill them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ailed questionnaire put together by the Data Conservancy about everything that might be important for your data management plan,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dataconservancy.org/sites/default/files/Questionnaire_V.1.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alifornia Digital Library’s on-line DMPTool,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s://dmp.cdlib.org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SF’s data management plan requirements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nsf.gov/bfa/dias/policy/dmp.js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Data Policy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science1.nasa.gov/earth-science/earth-science-data/data-information-policy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2-03-06T17:36:57Z</dcterms:modified>
  <cp:revision>47</cp:revision>
  <dc:subject/>
  <dc:title>ESIP Federation 101</dc:title>
</cp:coreProperties>
</file>